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drumroll.wav" ContentType="audio/x-wav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38C-3437-4ECA-8363-83359308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710A-312B-4385-BC78-E754481B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C225-9F3B-45EC-84E8-FA979C62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BC1B-66EF-4B86-8498-1CEDF87F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C38-9482-45B5-BA7D-A32D3B93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75B-5FF4-46D7-AF97-EAB79643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9729-EFDC-4E92-B165-0550D97E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672B-8BAF-4758-B160-4A255D2F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6CC5-2B20-4CFC-944D-A95CA31D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F2E-B9CE-4649-B1FA-A588B8B6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A1C-B178-4F53-8580-72546031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E85-617B-4288-9C8F-19B20FE3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6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20CF-322C-43EC-9822-5C03166B1D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7164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стание декабрист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042920" y="83664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ru-RU" sz="3200" spc="-1" strike="noStrike">
                <a:solidFill>
                  <a:srgbClr val="ff66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11280" y="1700280"/>
            <a:ext cx="4321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71640" y="1700280"/>
            <a:ext cx="36716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8" descr="image001"/>
          <p:cNvPicPr/>
          <p:nvPr/>
        </p:nvPicPr>
        <p:blipFill>
          <a:blip r:embed="rId1"/>
          <a:stretch/>
        </p:blipFill>
        <p:spPr>
          <a:xfrm>
            <a:off x="468360" y="1628640"/>
            <a:ext cx="7991280" cy="4834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Text Box 9"/>
          <p:cNvSpPr/>
          <p:nvPr/>
        </p:nvSpPr>
        <p:spPr>
          <a:xfrm>
            <a:off x="4788000" y="3716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ryleev_kondfed"/>
          <p:cNvPicPr/>
          <p:nvPr/>
        </p:nvPicPr>
        <p:blipFill>
          <a:blip r:embed="rId1"/>
          <a:stretch/>
        </p:blipFill>
        <p:spPr>
          <a:xfrm>
            <a:off x="3348000" y="1773360"/>
            <a:ext cx="2381400" cy="3276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79" name="Text Box 8"/>
          <p:cNvSpPr/>
          <p:nvPr/>
        </p:nvSpPr>
        <p:spPr>
          <a:xfrm>
            <a:off x="3348000" y="5157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.Ф.Рылее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PC110144_0"/>
          <p:cNvPicPr/>
          <p:nvPr/>
        </p:nvPicPr>
        <p:blipFill>
          <a:blip r:embed="rId1"/>
          <a:srcRect l="5111" t="0" r="5188" b="0"/>
          <a:stretch/>
        </p:blipFill>
        <p:spPr>
          <a:xfrm>
            <a:off x="250920" y="189000"/>
            <a:ext cx="3036960" cy="309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1" name="Text Box 5"/>
          <p:cNvSpPr/>
          <p:nvPr/>
        </p:nvSpPr>
        <p:spPr>
          <a:xfrm>
            <a:off x="4767120" y="203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419640" y="0"/>
            <a:ext cx="599112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Иван  Иванович Пущ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Жанно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член тайног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революционног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обще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посетил  Пушки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во время ссылк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в Михайловском («Пущину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79280" y="4724280"/>
            <a:ext cx="873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Осужден  на каторгу в Сибирь посл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восстания декабристов («Мой первый друг…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00000" y="40428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Вильгельм Кюхельбекер (Кюхл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C110154_0"/>
          <p:cNvPicPr/>
          <p:nvPr/>
        </p:nvPicPr>
        <p:blipFill>
          <a:blip r:embed="rId1"/>
          <a:stretch/>
        </p:blipFill>
        <p:spPr>
          <a:xfrm>
            <a:off x="250920" y="189000"/>
            <a:ext cx="3097080" cy="2690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цейский чуда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ект парод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лен тайного общества, друг Грибоедова и Рыле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ник восстания декабрис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 лет в одиночной камере, затем каторга, умер в Сибири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0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image001"/>
          <p:cNvPicPr/>
          <p:nvPr/>
        </p:nvPicPr>
        <p:blipFill>
          <a:blip r:embed="rId1"/>
          <a:stretch/>
        </p:blipFill>
        <p:spPr>
          <a:xfrm>
            <a:off x="684360" y="981000"/>
            <a:ext cx="7850160" cy="511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оюз спасения» (1816 -1817 г.г.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Организаторы и участники: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Н. и Н.М. Муравьевы, С.П.Трубецкой, С.И и М.И Муравьевы – Апостолы, П.И Пестель, И.И. Пущин, М.С. Лунин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о около 30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нить крепостное  право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ть конституционную монарх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ить революционный переворот в момент перехода к новому царство- в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66"/>
                </a:solidFill>
                <a:latin typeface="Arial"/>
              </a:rPr>
              <a:t>Первый план цареуби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оюз благоденствия» (1818 -18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99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ергнуть самодержавие, отменить крепостное пра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предать смерти царскую династ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030560" cy="44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читывалось около </a:t>
            </a:r>
            <a:r>
              <a:rPr b="1" lang="ru-RU" sz="2800" spc="-1" strike="noStrike">
                <a:solidFill>
                  <a:srgbClr val="66ff99"/>
                </a:solidFill>
                <a:latin typeface="Arial"/>
              </a:rPr>
              <a:t>20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м деятельным участником был П.И. Пес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Северное общество (1821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Организаторы: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М.Муравьев, М.С.Лун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И. Тургене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П.Трубец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Ф.Рыле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Цели: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в России конституционной монархии, равенство всех граждан перед законом, отмена крепостного пра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rial"/>
              </a:rPr>
              <a:t>Вооруженное выступление при смене императоров на прест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Южное общество (1821 г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Главные деятели: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И. Пес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И. Муравьев-Апост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Це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мена крепостного пра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енство все перед зако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rial"/>
              </a:rPr>
              <a:t>осуществить революционный переворот в момент перехода к новому царств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Запишите и запомн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14 декабря 1825 года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в Петербурге было подавлено восстание революционеров-дворян, выступивших против самодержавия и крепостничества. В историю они вошли под именем декабрис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Итоги восс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лечены к следств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ш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ланы на каторгу и на поселение в Сиби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дат прогнали шпицрутенами через тысячный ст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579 челов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5 челов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121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Arial"/>
              </a:rPr>
              <a:t>Повешенные декабрис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inf_2188_xex"/>
          <p:cNvPicPr/>
          <p:nvPr/>
        </p:nvPicPr>
        <p:blipFill>
          <a:blip r:embed="rId1"/>
          <a:stretch/>
        </p:blipFill>
        <p:spPr>
          <a:xfrm>
            <a:off x="1042920" y="1197000"/>
            <a:ext cx="2857680" cy="3600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67" name="Text Box 8"/>
          <p:cNvSpPr/>
          <p:nvPr/>
        </p:nvSpPr>
        <p:spPr>
          <a:xfrm>
            <a:off x="1116000" y="5013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П.И.Пестел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Picture 9" descr="m_26259"/>
          <p:cNvPicPr/>
          <p:nvPr/>
        </p:nvPicPr>
        <p:blipFill>
          <a:blip r:embed="rId2"/>
          <a:stretch/>
        </p:blipFill>
        <p:spPr>
          <a:xfrm>
            <a:off x="5148360" y="1844640"/>
            <a:ext cx="2824200" cy="3816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69" name="Text Box 10"/>
          <p:cNvSpPr/>
          <p:nvPr/>
        </p:nvSpPr>
        <p:spPr>
          <a:xfrm>
            <a:off x="5148360" y="5661000"/>
            <a:ext cx="26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5148360" y="573408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М.А. Бестужев-Рюм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Каховский  Петр Григорьевич"/>
          <p:cNvPicPr/>
          <p:nvPr/>
        </p:nvPicPr>
        <p:blipFill>
          <a:blip r:embed="rId1"/>
          <a:stretch/>
        </p:blipFill>
        <p:spPr>
          <a:xfrm>
            <a:off x="900000" y="404640"/>
            <a:ext cx="2951280" cy="367200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900000" y="43657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.Г.Кахов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9" descr="&lt;small&gt;Из собр. Пушкинского Дома.&lt;/small&gt;"/>
          <p:cNvPicPr/>
          <p:nvPr/>
        </p:nvPicPr>
        <p:blipFill>
          <a:blip r:embed="rId2"/>
          <a:stretch/>
        </p:blipFill>
        <p:spPr>
          <a:xfrm>
            <a:off x="5435640" y="1989000"/>
            <a:ext cx="2954160" cy="381636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75" name="Text Box 10"/>
          <p:cNvSpPr/>
          <p:nvPr/>
        </p:nvSpPr>
        <p:spPr>
          <a:xfrm>
            <a:off x="5364000" y="5877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.И. Муравьев-Апосто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0:05:55Z</dcterms:created>
  <dc:creator>Надежда</dc:creator>
  <dc:description/>
  <dc:language>en-US</dc:language>
  <cp:lastModifiedBy>Макаров</cp:lastModifiedBy>
  <dcterms:modified xsi:type="dcterms:W3CDTF">2012-11-06T04:59:34Z</dcterms:modified>
  <cp:revision>26</cp:revision>
  <dc:subject/>
  <dc:title>Восстание декабристов.  Декабристы на Кубани.</dc:title>
</cp:coreProperties>
</file>